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98A3-A51C-4600-BBE5-C08F29E77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8B29-B4A3-471D-955D-BCA3A3AED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AA92-52F7-4FA1-BB2D-AFB6012B4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FEC8-590F-4735-B0AE-44791584F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5B2A-0E41-4F64-B757-10183DBE4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CA86-8941-4F8B-99AB-6C29BE68A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F9D7-64C0-4E5D-B2CB-7BD71F7D4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73F6-528B-4400-B6B9-548960D4F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DE76-979A-4482-A6B2-BEFFBA87E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8D66-106F-4B9A-B749-B512D743B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284A-9610-49BB-8081-AD26813AC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6CAA-4925-48B4-81B0-6A51E3DC5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A64EE-8F0A-40AE-A463-A04FDE213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E2078-BFEA-4977-886A-8800A09E2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37179-E9B5-49A7-90D7-6A9FB1083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237B7-B77B-4857-80F0-96143D906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E040D-96D8-4DF0-9093-7EC1D2E45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D44F4-9209-42F7-B32B-916231B5F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258AF-EB78-4E7C-A8BE-670A21CAB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8FD40-9AB2-4C67-B8FF-68E1E3F9D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C2469-FF04-451B-9597-DF098A844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F71CC-481E-4056-AF5D-F68CDB53E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86CD1-1572-4150-89CD-6330C57A3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A13C1-48DD-4CBA-BB46-B9F88AE11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3"/>
          <a:stretch/>
        </p:blipFill>
        <p:spPr>
          <a:xfrm>
            <a:off x="0" y="-54000"/>
            <a:ext cx="9144000" cy="134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3" descr=""/>
          <p:cNvPicPr/>
          <p:nvPr/>
        </p:nvPicPr>
        <p:blipFill>
          <a:blip r:embed="rId3"/>
          <a:stretch/>
        </p:blipFill>
        <p:spPr>
          <a:xfrm>
            <a:off x="0" y="-54000"/>
            <a:ext cx="9144000" cy="1349280"/>
          </a:xfrm>
          <a:prstGeom prst="rect">
            <a:avLst/>
          </a:prstGeom>
          <a:ln w="0">
            <a:noFill/>
          </a:ln>
        </p:spPr>
      </p:pic>
      <p:pic>
        <p:nvPicPr>
          <p:cNvPr id="38" name="Picture 2" descr=""/>
          <p:cNvPicPr/>
          <p:nvPr/>
        </p:nvPicPr>
        <p:blipFill>
          <a:blip r:embed="rId4"/>
          <a:stretch/>
        </p:blipFill>
        <p:spPr>
          <a:xfrm>
            <a:off x="1762200" y="5935680"/>
            <a:ext cx="584820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3" descr=""/>
          <p:cNvPicPr/>
          <p:nvPr/>
        </p:nvPicPr>
        <p:blipFill>
          <a:blip r:embed="rId3"/>
          <a:stretch/>
        </p:blipFill>
        <p:spPr>
          <a:xfrm>
            <a:off x="0" y="-5400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76" name="TextBox 2"/>
          <p:cNvSpPr/>
          <p:nvPr/>
        </p:nvSpPr>
        <p:spPr>
          <a:xfrm>
            <a:off x="0" y="205740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AR_Global_partners.jpg"/>
          <p:cNvPicPr/>
          <p:nvPr/>
        </p:nvPicPr>
        <p:blipFill>
          <a:blip r:embed="rId4"/>
          <a:stretch/>
        </p:blipFill>
        <p:spPr>
          <a:xfrm>
            <a:off x="1733400" y="5533920"/>
            <a:ext cx="5677200" cy="561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3" descr=""/>
          <p:cNvPicPr/>
          <p:nvPr/>
        </p:nvPicPr>
        <p:blipFill>
          <a:blip r:embed="rId3"/>
          <a:stretch/>
        </p:blipFill>
        <p:spPr>
          <a:xfrm>
            <a:off x="0" y="-5400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834F0-99C4-410D-8F32-3BD5FEA40848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4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34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3" descr=""/>
          <p:cNvPicPr/>
          <p:nvPr/>
        </p:nvPicPr>
        <p:blipFill>
          <a:blip r:embed="rId3"/>
          <a:stretch/>
        </p:blipFill>
        <p:spPr>
          <a:xfrm>
            <a:off x="0" y="-5400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1A744-376F-4D47-9BB6-E377E301B9C0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Box 4"/>
          <p:cNvSpPr/>
          <p:nvPr/>
        </p:nvSpPr>
        <p:spPr>
          <a:xfrm>
            <a:off x="328680" y="33336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heme 2: Timelines for revision and submission of manu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71280" y="907920"/>
          <a:ext cx="8893440" cy="5722920"/>
        </p:xfrm>
        <a:graphic>
          <a:graphicData uri="http://schemas.openxmlformats.org/drawingml/2006/table">
            <a:tbl>
              <a:tblPr/>
              <a:tblGrid>
                <a:gridCol w="3170520"/>
                <a:gridCol w="1353960"/>
                <a:gridCol w="1373400"/>
                <a:gridCol w="1498320"/>
                <a:gridCol w="1497240"/>
              </a:tblGrid>
              <a:tr h="649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anuscript 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uth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ompletion of revi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ubmission of manuscrip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arget Journ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0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orralling, plant density and N fertilizer rate effect on soil, weed and grain yie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urude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5/12/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1/12/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xp. Agri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ivestock corralling density effect on soil quality inde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urude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5/12/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1/12/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eode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0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owpea growth type effects on productivity  and profitability of hybrid ma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Haru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1/12/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/01/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xp. Agri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0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mproved rice variety response to nitrogen rate in Northern Gh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Juli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/01/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4/01/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t. J of Agric. &amp; Biol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7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ductivity of maize-vegetable intercrops in Northern Gh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Jean-Baptis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/01/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4/01/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xp. Agri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6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ductivity of maize-vegetable intercrops in Northern Mal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Jean-Baptis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/01/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4/01/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xp. Agri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LTIT2</cp:lastModifiedBy>
  <cp:lastPrinted>2015-09-01T11:16:39Z</cp:lastPrinted>
  <dcterms:modified xsi:type="dcterms:W3CDTF">2016-12-13T15:46:07Z</dcterms:modified>
  <cp:revision>998</cp:revision>
  <dc:subject/>
  <dc:title>Diapositiva 1</dc:title>
</cp:coreProperties>
</file>